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3C7B-C945-469B-B08B-2752E797E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logycorner.com/bio2/notes_sexlinkag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wodocs.com/red-green-color-blind-tests/red-green-color-blindness-tes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commons.wikimedia.org/wiki/File:Autosomal_Dominant_Pedigree_Chart2.sv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faculty.southwest.tn.edu/rburkett/GB%20Genetics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napdragon flowers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iologyjunction.com/mendelian_genetics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joannelovesscience.com/2009.12.06_arch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an c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.georgiasouthern.edu/bio-home/harvey/lect/lectures.html?flnm=gen2&amp;ttl=Sources%20of%20Variation:%20genes&amp;ccode=el&amp;mda=sc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ome.comcast.net/~mjmayhew42/Biology%20notes/multiple%20alleles%20not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logycorner.com/APbiology/inheritance/11-5_beyond_mendel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nobelprize.org/nobel_prizes/medicine/articles/lewis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23F0-4AB2-4791-93C2-383159132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E9BC-0143-4F7A-A96F-933D6D3A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784F-5A66-46E0-803A-A816CF038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B9A7-007A-4EC5-B7ED-C532A6B2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F999-2190-42CE-AAAD-FF2AB28C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B97D-369B-4CE1-B344-1B033B3C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5224-E747-4490-BAB9-CD2D65B9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C3B9-2165-433A-BBD6-7CBED45F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6E0E-371E-4533-81BC-96CD5F17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532B-612A-4E88-998F-5E4A529F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EDF1-B146-4C33-94B5-76003009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3037-77A4-4FC6-9E12-C370DF0A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FAE4-8E33-4A01-B00B-E92A4BEFF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tions In Hered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lete dominance codom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 lin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611280"/>
            <a:ext cx="77724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x linkage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somal 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-lin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lin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-lin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sex-linked trai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-green colourblin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ophilia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e-pattern bal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38200" y="304920"/>
            <a:ext cx="61912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digree Ch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41320" y="1676520"/>
            <a:ext cx="5735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digree Ch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he Practice questions on page 199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omplete Domi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its in Mendel’s pea plants exhibit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te dom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lleles interact to produce a new phenotype;  this i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omplete dom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napdrag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25560" y="1981080"/>
            <a:ext cx="549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07960" y="609480"/>
            <a:ext cx="6326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omi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omin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th alleles are expressed at the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343400" y="2224080"/>
            <a:ext cx="449568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874800"/>
            <a:ext cx="77724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89280" y="609480"/>
            <a:ext cx="5365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omas Morgan Hu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geneticist (1866-194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d the fruit f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ver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x lin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986360" y="1981080"/>
            <a:ext cx="3132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8:55:53Z</dcterms:created>
  <dc:creator>rubina khan</dc:creator>
  <dc:description/>
  <dc:language>en-US</dc:language>
  <cp:lastModifiedBy>rubina khan</cp:lastModifiedBy>
  <dcterms:modified xsi:type="dcterms:W3CDTF">2013-03-21T10:23:30Z</dcterms:modified>
  <cp:revision>72</cp:revision>
  <dc:subject/>
  <dc:title>Genetic Processes</dc:title>
</cp:coreProperties>
</file>